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unshot.wav" ContentType="audio/x-wav"/>
  <Override PartName="/ppt/media/ricochet.wav" ContentType="audio/x-wav"/>
  <Override PartName="/ppt/media/cashreg.wav" ContentType="audio/x-wav"/>
  <Override PartName="/ppt/media/camera.wav" ContentType="audio/x-wav"/>
  <Override PartName="/ppt/media/laser.wav" ContentType="audio/x-wav"/>
  <Override PartName="/ppt/media/zapbig0g.wav" ContentType="audio/x-wav"/>
  <Override PartName="/ppt/media/zipdn102.wav" ContentType="audio/x-wav"/>
  <Override PartName="/ppt/media/zapvib04.wav" ContentType="audio/x-wav"/>
  <Override PartName="/ppt/media/hzipup01.wav" ContentType="audio/x-wav"/>
  <Override PartName="/ppt/media/caralarmoff.wav" ContentType="audio/x-wav"/>
  <Override PartName="/ppt/media/lzipup01.wav" ContentType="audio/x-wav"/>
  <Override PartName="/ppt/media/bserie06.wav" ContentType="audio/x-wav"/>
  <Override PartName="/ppt/media/image1.wmf" ContentType="image/x-wmf"/>
  <Override PartName="/ppt/media/driveby.wav" ContentType="audio/x-wav"/>
  <Override PartName="/ppt/media/spac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7CF-1DAE-4820-A964-4B993EAB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453-5DE9-4A7D-B36E-44419E65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A79-DE33-4DC7-A57B-AF49C8DB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70B-4C7C-42FA-8DAC-EBD49E95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A63-FC41-4A2A-9052-BD643538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224-AF8A-4C2A-B8AE-B0E89A50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CA0-AD14-4825-88F5-778F7912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E7C-2227-454C-B712-A6F02D96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C4F-95F3-43D5-AC1C-24526E36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916-135B-4F05-81BD-3E921CF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BD6-703C-4C6B-91C1-BB0BBD03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867-65B4-4E59-B9B4-7C657EBF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D34C-5B81-418F-BFE6-6EFF3EF9C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zapvib04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hzipup01.wav"/><Relationship Id="rId7" Type="http://schemas.openxmlformats.org/officeDocument/2006/relationships/audio" Target="../media/zipdn102.wav"/><Relationship Id="rId8" Type="http://schemas.openxmlformats.org/officeDocument/2006/relationships/audio" Target="../media/space.wav"/><Relationship Id="rId9" Type="http://schemas.openxmlformats.org/officeDocument/2006/relationships/audio" Target="../media/space.wav"/><Relationship Id="rId10" Type="http://schemas.openxmlformats.org/officeDocument/2006/relationships/audio" Target="../media/zapvib04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hzipup01.wav"/><Relationship Id="rId19" Type="http://schemas.openxmlformats.org/officeDocument/2006/relationships/audio" Target="../media/zipdn102.wav"/><Relationship Id="rId20" Type="http://schemas.openxmlformats.org/officeDocument/2006/relationships/audio" Target="../media/hzipup01.wav"/><Relationship Id="rId21" Type="http://schemas.openxmlformats.org/officeDocument/2006/relationships/audio" Target="../media/zipdn102.wav"/><Relationship Id="rId22" Type="http://schemas.openxmlformats.org/officeDocument/2006/relationships/audio" Target="../media/space.wav"/><Relationship Id="rId23" Type="http://schemas.openxmlformats.org/officeDocument/2006/relationships/audio" Target="../media/space.wav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vib04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space.wav"/><Relationship Id="rId7" Type="http://schemas.openxmlformats.org/officeDocument/2006/relationships/audio" Target="../media/spac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vib04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zapbig0g.wav"/><Relationship Id="rId5" Type="http://schemas.openxmlformats.org/officeDocument/2006/relationships/audio" Target="../media/space.wav"/><Relationship Id="rId6" Type="http://schemas.openxmlformats.org/officeDocument/2006/relationships/audio" Target="../media/spac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zapbig0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bserie06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bserie06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gunshot.wav"/><Relationship Id="rId23" Type="http://schemas.openxmlformats.org/officeDocument/2006/relationships/audio" Target="../media/driveby.wav"/><Relationship Id="rId24" Type="http://schemas.openxmlformats.org/officeDocument/2006/relationships/audio" Target="../media/cashreg.wav"/><Relationship Id="rId25" Type="http://schemas.openxmlformats.org/officeDocument/2006/relationships/audio" Target="../media/cashreg.wav"/><Relationship Id="rId26" Type="http://schemas.openxmlformats.org/officeDocument/2006/relationships/audio" Target="../media/cashreg.wav"/><Relationship Id="rId27" Type="http://schemas.openxmlformats.org/officeDocument/2006/relationships/audio" Target="../media/cashreg.wav"/><Relationship Id="rId28" Type="http://schemas.openxmlformats.org/officeDocument/2006/relationships/audio" Target="../media/bserie06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gunshot.wav"/><Relationship Id="rId33" Type="http://schemas.openxmlformats.org/officeDocument/2006/relationships/audio" Target="../media/driveby.wav"/><Relationship Id="rId34" Type="http://schemas.openxmlformats.org/officeDocument/2006/relationships/audio" Target="../media/cashreg.wav"/><Relationship Id="rId35" Type="http://schemas.openxmlformats.org/officeDocument/2006/relationships/audio" Target="../media/cashreg.wav"/><Relationship Id="rId36" Type="http://schemas.openxmlformats.org/officeDocument/2006/relationships/audio" Target="../media/cashreg.wav"/><Relationship Id="rId37" Type="http://schemas.openxmlformats.org/officeDocument/2006/relationships/audio" Target="../media/cashreg.wav"/><Relationship Id="rId38" Type="http://schemas.openxmlformats.org/officeDocument/2006/relationships/audio" Target="../media/bserie06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gunshot.wav"/><Relationship Id="rId43" Type="http://schemas.openxmlformats.org/officeDocument/2006/relationships/audio" Target="../media/driveby.wav"/><Relationship Id="rId4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zapbig0g.wav"/><Relationship Id="rId4" Type="http://schemas.openxmlformats.org/officeDocument/2006/relationships/audio" Target="../media/cashreg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ricochet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driveby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driveby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ricochet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driveby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ricochet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driveby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ricochet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driveby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driveby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466560" y="1838160"/>
                <a:ext cx="30877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 on One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819440" y="3476520"/>
                <a:ext cx="5727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414440" y="2550960"/>
            <a:ext cx="782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1720" y="2509920"/>
            <a:ext cx="6685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46040" y="2563920"/>
                <a:ext cx="997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727360" y="2558880"/>
                <a:ext cx="963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460600" y="3376440"/>
                <a:ext cx="1528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341960" y="1731960"/>
                <a:ext cx="48020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686640" y="5051520"/>
                <a:ext cx="620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718320" y="4046400"/>
            <a:ext cx="7826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75600" y="4005360"/>
            <a:ext cx="6685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931080" y="4037040"/>
                <a:ext cx="433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8302680" y="4033800"/>
                <a:ext cx="419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351560" y="4870440"/>
                <a:ext cx="1528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792680" y="3125880"/>
            <a:ext cx="43876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277120" y="2484360"/>
                <a:ext cx="866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595920" y="2505240"/>
                <a:ext cx="866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143920" y="3273480"/>
                <a:ext cx="10000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621480" y="3284640"/>
                <a:ext cx="13906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919840" y="1890720"/>
                <a:ext cx="56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681960" y="1890720"/>
                <a:ext cx="564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74840" y="1814400"/>
                <a:ext cx="355896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 on One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046240" y="4038480"/>
                <a:ext cx="57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711520" y="3938760"/>
                <a:ext cx="1481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50960" y="2278080"/>
                <a:ext cx="1444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514680" y="2216160"/>
                <a:ext cx="1527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958680" y="2406600"/>
            <a:ext cx="641520" cy="519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905120" y="2940120"/>
            <a:ext cx="641160" cy="519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 on Both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0040" y="1959120"/>
                <a:ext cx="49500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1057320" y="3094200"/>
            <a:ext cx="43876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029040" y="2516040"/>
                <a:ext cx="124308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93920" y="2519280"/>
                <a:ext cx="12445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031840" y="3354480"/>
                <a:ext cx="57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12880" y="3224160"/>
                <a:ext cx="1433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a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311120" y="1582560"/>
                <a:ext cx="5558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6" name=""/>
          <p:cNvGraphicFramePr/>
          <p:nvPr/>
        </p:nvGraphicFramePr>
        <p:xfrm>
          <a:off x="1803240" y="1509840"/>
          <a:ext cx="55584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1509840"/>
                    <a:ext cx="5558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373480" y="1455840"/>
                <a:ext cx="4730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333360" y="2262240"/>
            <a:ext cx="3586320" cy="459720"/>
            <a:chOff x="333360" y="2262240"/>
            <a:chExt cx="3586320" cy="459720"/>
          </a:xfrm>
        </p:grpSpPr>
        <p:sp>
          <p:nvSpPr>
            <p:cNvPr id="90" name=""/>
            <p:cNvSpPr/>
            <p:nvPr/>
          </p:nvSpPr>
          <p:spPr>
            <a:xfrm>
              <a:off x="333360" y="2490840"/>
              <a:ext cx="358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9200" y="2262240"/>
              <a:ext cx="33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l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873080" y="2585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33640" y="2351160"/>
            <a:ext cx="304920" cy="30456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09600" y="2490840"/>
            <a:ext cx="1736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7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 different kinds of inequality grap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1040" y="25988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8800" y="2575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77880" y="1476360"/>
                <a:ext cx="5983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622840" y="1581120"/>
                <a:ext cx="5558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114960" y="153036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684840" y="1454040"/>
                <a:ext cx="4730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" name=""/>
          <p:cNvGrpSpPr/>
          <p:nvPr/>
        </p:nvGrpSpPr>
        <p:grpSpPr>
          <a:xfrm>
            <a:off x="4645080" y="2260440"/>
            <a:ext cx="3585960" cy="459720"/>
            <a:chOff x="4645080" y="2260440"/>
            <a:chExt cx="3585960" cy="459720"/>
          </a:xfrm>
        </p:grpSpPr>
        <p:sp>
          <p:nvSpPr>
            <p:cNvPr id="103" name=""/>
            <p:cNvSpPr/>
            <p:nvPr/>
          </p:nvSpPr>
          <p:spPr>
            <a:xfrm>
              <a:off x="4645080" y="2489040"/>
              <a:ext cx="358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50920" y="2260440"/>
              <a:ext cx="337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l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184800" y="25844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45360" y="2349360"/>
            <a:ext cx="304560" cy="304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15000" y="2489040"/>
            <a:ext cx="1649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62400" y="25970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0520" y="2573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9600" y="1474920"/>
                <a:ext cx="598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308240" y="4336920"/>
                <a:ext cx="555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00360" y="4241880"/>
                <a:ext cx="555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370240" y="4210200"/>
                <a:ext cx="4730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330120" y="5016600"/>
            <a:ext cx="3586320" cy="459720"/>
            <a:chOff x="330120" y="5016600"/>
            <a:chExt cx="3586320" cy="459720"/>
          </a:xfrm>
        </p:grpSpPr>
        <p:sp>
          <p:nvSpPr>
            <p:cNvPr id="115" name=""/>
            <p:cNvSpPr/>
            <p:nvPr/>
          </p:nvSpPr>
          <p:spPr>
            <a:xfrm>
              <a:off x="330120" y="5245200"/>
              <a:ext cx="358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5960" y="5016600"/>
              <a:ext cx="33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l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870200" y="53402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0400" y="5105520"/>
            <a:ext cx="304920" cy="30456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6360" y="5245200"/>
            <a:ext cx="1736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7800" y="535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95560" y="5329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74640" y="4230720"/>
                <a:ext cx="598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648400" y="4336920"/>
                <a:ext cx="555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40520" y="4241880"/>
                <a:ext cx="555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710400" y="4210200"/>
                <a:ext cx="4730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4670280" y="5016600"/>
            <a:ext cx="3586320" cy="459720"/>
            <a:chOff x="4670280" y="5016600"/>
            <a:chExt cx="3586320" cy="459720"/>
          </a:xfrm>
        </p:grpSpPr>
        <p:sp>
          <p:nvSpPr>
            <p:cNvPr id="127" name=""/>
            <p:cNvSpPr/>
            <p:nvPr/>
          </p:nvSpPr>
          <p:spPr>
            <a:xfrm>
              <a:off x="4670280" y="5245200"/>
              <a:ext cx="358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76120" y="5016600"/>
              <a:ext cx="337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l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210360" y="53402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70560" y="5105520"/>
            <a:ext cx="304920" cy="304560"/>
          </a:xfrm>
          <a:prstGeom prst="ellipse">
            <a:avLst/>
          </a:prstGeom>
          <a:solidFill>
            <a:srgbClr val="ff0000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2000" y="5245200"/>
            <a:ext cx="1636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7960" y="5353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35720" y="5329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014800" y="4230720"/>
                <a:ext cx="598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75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75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75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75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75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75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75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7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7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99880" y="1281240"/>
                <a:ext cx="35546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749600" y="1874880"/>
                <a:ext cx="10206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84320" y="1924200"/>
                <a:ext cx="1016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790560" y="2576520"/>
            <a:ext cx="32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133720" y="2664000"/>
                <a:ext cx="55548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2755800" y="2668680"/>
          <a:ext cx="55584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5800" y="2668680"/>
                    <a:ext cx="5558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365640" y="2589120"/>
                <a:ext cx="5094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487440" y="3794040"/>
            <a:ext cx="5105160" cy="459720"/>
            <a:chOff x="487440" y="3794040"/>
            <a:chExt cx="5105160" cy="459720"/>
          </a:xfrm>
        </p:grpSpPr>
        <p:sp>
          <p:nvSpPr>
            <p:cNvPr id="145" name=""/>
            <p:cNvSpPr/>
            <p:nvPr/>
          </p:nvSpPr>
          <p:spPr>
            <a:xfrm>
              <a:off x="487440" y="402264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9720" y="379404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        l        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773440" y="41306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387036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01480" y="4022640"/>
            <a:ext cx="2408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7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and graph th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04760" y="4130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56160" y="41450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0160" y="1185840"/>
                <a:ext cx="49766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02000" y="1928880"/>
                <a:ext cx="9763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122720" y="1963800"/>
                <a:ext cx="973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978200" y="263844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016080" y="2755800"/>
                <a:ext cx="5558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624120" y="273852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456080" y="2666880"/>
                <a:ext cx="370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1" name=""/>
          <p:cNvGrpSpPr/>
          <p:nvPr/>
        </p:nvGrpSpPr>
        <p:grpSpPr>
          <a:xfrm>
            <a:off x="487440" y="3794040"/>
            <a:ext cx="5105160" cy="459720"/>
            <a:chOff x="487440" y="3794040"/>
            <a:chExt cx="5105160" cy="459720"/>
          </a:xfrm>
        </p:grpSpPr>
        <p:sp>
          <p:nvSpPr>
            <p:cNvPr id="162" name=""/>
            <p:cNvSpPr/>
            <p:nvPr/>
          </p:nvSpPr>
          <p:spPr>
            <a:xfrm>
              <a:off x="487440" y="402264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9720" y="379404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        l        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773440" y="41306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387036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82760" y="4022640"/>
            <a:ext cx="2468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7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and graph th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04760" y="4130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56160" y="41450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06400" y="1258920"/>
                <a:ext cx="39117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362320" y="1935000"/>
                <a:ext cx="8874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786120" y="1925640"/>
                <a:ext cx="884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978200" y="263844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2795760"/>
                <a:ext cx="603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259080" y="2692440"/>
                <a:ext cx="5558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021200" y="2660760"/>
                <a:ext cx="5079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487440" y="3794040"/>
            <a:ext cx="5105160" cy="459720"/>
            <a:chOff x="487440" y="3794040"/>
            <a:chExt cx="5105160" cy="459720"/>
          </a:xfrm>
        </p:grpSpPr>
        <p:sp>
          <p:nvSpPr>
            <p:cNvPr id="179" name=""/>
            <p:cNvSpPr/>
            <p:nvPr/>
          </p:nvSpPr>
          <p:spPr>
            <a:xfrm>
              <a:off x="487440" y="402264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9720" y="379404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        l        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773440" y="41306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87036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82760" y="4022640"/>
            <a:ext cx="2468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7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and graph th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8800" y="41306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56160" y="41450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75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75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60280" y="1200240"/>
                <a:ext cx="49770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502000" y="1928880"/>
                <a:ext cx="9763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22720" y="1963800"/>
                <a:ext cx="9730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978200" y="263844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984400" y="2787480"/>
                <a:ext cx="557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594240" y="2722680"/>
                <a:ext cx="555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118040" y="2644920"/>
                <a:ext cx="1017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487440" y="3794040"/>
            <a:ext cx="5105160" cy="459720"/>
            <a:chOff x="487440" y="3794040"/>
            <a:chExt cx="5105160" cy="459720"/>
          </a:xfrm>
        </p:grpSpPr>
        <p:sp>
          <p:nvSpPr>
            <p:cNvPr id="196" name=""/>
            <p:cNvSpPr/>
            <p:nvPr/>
          </p:nvSpPr>
          <p:spPr>
            <a:xfrm>
              <a:off x="487440" y="402264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9720" y="379404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             l            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666880" y="413064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387036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39200" y="4022640"/>
            <a:ext cx="25146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7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olve and graph the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8560" y="4130640"/>
            <a:ext cx="6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414504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862280" y="1401840"/>
                <a:ext cx="564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608200" y="1401840"/>
                <a:ext cx="56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75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75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7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7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05, 12 – 3 #1-1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09, 12 – 5 #1-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5-10T19:23:08Z</dcterms:modified>
  <cp:revision>31</cp:revision>
  <dc:subject/>
  <dc:title>Slide 1</dc:title>
</cp:coreProperties>
</file>